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B81-1B5D-4335-B402-EDB18A33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7EF-B3C1-4779-860D-DA5EEF3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289-580D-4791-8B60-9DF85A62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F23-8596-48B2-9E0A-9E9437B8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38C-C27E-4E50-B575-72BAF4A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5EE-548A-42B8-B619-DE5A2866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39FE-12CC-4151-B755-4C3D292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799-92F1-4482-B459-15867FF5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163-76E1-45B5-BD18-4BFD9F5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5260-5E52-4F93-A87C-E5A4D66C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6F6B-7751-4777-8E9B-E6F64F3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306-0CA7-4B60-8A4E-F358F7A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879-F8BD-481C-AB71-1FDB57C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4DA4-AB83-4B98-B9E0-B4DCE4E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8804-DE99-4CA6-A2C6-596B34E6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BC49-8D2F-44C1-A224-643CA02E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9D61-C73C-4A0B-A6EB-D27C2EE4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677-E48D-44A7-A652-BB5FD882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996-CC1F-4D70-990E-6766376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737-65B9-49C8-B83F-451474D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5BB-C43A-4350-8395-6A218E3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C83-9F88-4F62-BBF3-534DEE5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416-9ADF-445F-A109-2A56D2A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4FB-74F5-4592-B71F-C3B5E9B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DAF-1EE5-42C5-B87D-FA294BC9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0C51-EFEC-45B3-9F82-9574EBC7D0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Times New Roman"/>
              </a:rPr>
              <a:t>15.3:  The Cold War at Hom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7010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A New Red Sca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ear of Communism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pies sweeps Ame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McCarthy-Brown v Board.asx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cCarthy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McCarran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KA: Internal Security A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llegal to establish a totalitarian government in the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sts needed to publish their records and register w/US 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Pat McCarran"/>
          <p:cNvPicPr/>
          <p:nvPr/>
        </p:nvPicPr>
        <p:blipFill>
          <a:blip r:embed="rId1"/>
          <a:stretch/>
        </p:blipFill>
        <p:spPr>
          <a:xfrm>
            <a:off x="4876920" y="1600200"/>
            <a:ext cx="375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.  Communist Influe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viet Union, Eastern Europe, China, North Korea ---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common denomin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 Communists in the U.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-52812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0,000 in U.S. belonged to the Communist Party = Americans fear of sp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-52812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ndful of incidents blown out of propor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 Truman criticized…“soft” on commun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35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hblock6"/>
          <p:cNvPicPr/>
          <p:nvPr/>
        </p:nvPicPr>
        <p:blipFill>
          <a:blip r:embed="rId1"/>
          <a:stretch/>
        </p:blipFill>
        <p:spPr>
          <a:xfrm>
            <a:off x="1897200" y="63360"/>
            <a:ext cx="53496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hblock2"/>
          <p:cNvPicPr/>
          <p:nvPr/>
        </p:nvPicPr>
        <p:blipFill>
          <a:blip r:embed="rId1"/>
          <a:stretch/>
        </p:blipFill>
        <p:spPr>
          <a:xfrm>
            <a:off x="1766880" y="63360"/>
            <a:ext cx="56116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ROS_DI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Loyalty Review Pro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 federal employees are screened to ensure they are “loyal” to the U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BI investigated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ny qu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ver had evidence; “suspicious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38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.  House Committee on Un-American Activities (HUAC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 Committee created to search out disloyalty to the U.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stigated Hollywood film indu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llywood Ten: “unfriendly”witnes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lacklis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 Soviet Union films before and after WWI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llywood T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The Hollywood Ten"/>
          <p:cNvPicPr/>
          <p:nvPr/>
        </p:nvPicPr>
        <p:blipFill>
          <a:blip r:embed="rId1"/>
          <a:stretch/>
        </p:blipFill>
        <p:spPr>
          <a:xfrm>
            <a:off x="4869000" y="1676520"/>
            <a:ext cx="427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s03380u"/>
          <p:cNvPicPr/>
          <p:nvPr/>
        </p:nvPicPr>
        <p:blipFill>
          <a:blip r:embed="rId1"/>
          <a:stretch/>
        </p:blipFill>
        <p:spPr>
          <a:xfrm>
            <a:off x="2138400" y="63360"/>
            <a:ext cx="4869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Spy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Alger Hi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cussed of spying for Soviet’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victed of perjury; sent to j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rsued by congressman Richard Nix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6" descr="hisshuac8-5"/>
          <p:cNvPicPr/>
          <p:nvPr/>
        </p:nvPicPr>
        <p:blipFill>
          <a:blip r:embed="rId1"/>
          <a:stretch/>
        </p:blipFill>
        <p:spPr>
          <a:xfrm>
            <a:off x="5029200" y="1676520"/>
            <a:ext cx="3333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Spy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Ethel &amp; Julius Rosenber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mbers of American Communist Pa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victed of giving info to SU re: atomic bom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ecuted by electroc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10" descr="200px-Julius_and_Ethel_Rosenberg_NYWTS"/>
          <p:cNvPicPr/>
          <p:nvPr/>
        </p:nvPicPr>
        <p:blipFill>
          <a:blip r:embed="rId1"/>
          <a:stretch/>
        </p:blipFill>
        <p:spPr>
          <a:xfrm>
            <a:off x="4495680" y="1862280"/>
            <a:ext cx="4267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Project Veno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946 US cracked SU spy co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ssages between Moscow and US read; &gt; 3,000 messa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= confirmation spying existe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vealed in 199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I.  McCarthy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Senator Joseph McCarthy “Witch Hunt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McCarthyis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Unfair tactic of accusing people of disloyalty without providing evid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Rep. did not stop him thinking it would help win 1952 presidential el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 Losses credibility when he makes accusations against U.S. Arm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Joseph McCarthy"/>
          <p:cNvPicPr/>
          <p:nvPr/>
        </p:nvPicPr>
        <p:blipFill>
          <a:blip r:embed="rId1"/>
          <a:stretch/>
        </p:blipFill>
        <p:spPr>
          <a:xfrm>
            <a:off x="1066680" y="3657600"/>
            <a:ext cx="33530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9T20:53:34Z</dcterms:modified>
  <cp:revision>18</cp:revision>
  <dc:subject/>
  <dc:title>PowerPoint Presentation</dc:title>
</cp:coreProperties>
</file>